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5BB0-9139-46C5-B099-D516C241F1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E356-D9DE-415A-B9C4-B00E9CA618B0}" type="slidenum">
              <a:rPr b="0" lang="ru-RU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тр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C980-6878-46E6-9489-208DC422EDFA}" type="slidenum">
              <a:rPr b="0" lang="ru-RU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Monotype Corsiv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17EA-AF3D-496A-BAB8-E2E6BC953FCD}" type="slidenum">
              <a:rPr b="0" lang="ru-RU" sz="12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2d2525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236-9B99-497F-83AE-14A8E730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F03-4AEC-485F-8A58-7B249D32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F72-788E-4F96-A5FA-F3B4D7B3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EB4-30DC-4836-9507-4104D7AA9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8357-8AFD-4800-9C18-17B6673C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0334-B3E1-469A-A551-D0692B45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5A38-6D76-4A42-BE79-BC48EA84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74F1-F15C-41BD-AD0C-C20AFA97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477A-0903-4C32-A393-6F07EEF0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CC9-D20E-46A7-949C-395577A9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5C8E-F63E-432D-B0B3-521551E0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E2D-093B-43AE-8753-41991791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E16E-FAA4-4067-8EB6-574C1002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B6B7-3A69-41E8-88F9-15896003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538C-CFBE-4F87-BF2F-B180FC58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443C-7A7C-4951-91DF-3A410F9C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BE13-CA12-419A-B2CE-8F673814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FC2-CC52-4E77-9832-042C1713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B19-4442-47E1-BEE7-4141AEB2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4A1-5C1A-4020-8508-33AA7B07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11C-B082-4B6A-9770-8346A9E5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533-C15F-4751-A18C-592F520F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154-0DC8-41E9-A6A1-137FF79C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777-A333-436B-8E92-42A2192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d2525"/>
                </a:solidFill>
                <a:latin typeface="Monotype Corsiva"/>
              </a:endParaRPr>
            </a:p>
          </p:txBody>
        </p:sp>
        <p:pic>
          <p:nvPicPr>
            <p:cNvPr id="2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D5CE-4A28-4025-9133-96DE66246E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d2525"/>
                </a:solidFill>
                <a:latin typeface="Monotype Corsiva"/>
              </a:endParaRPr>
            </a:p>
          </p:txBody>
        </p:sp>
        <p:pic>
          <p:nvPicPr>
            <p:cNvPr id="46" name="Picture 4" descr="hokusai2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644F-018D-4061-B600-EE5659564B04}" type="slidenum">
              <a:rPr b="0" lang="ru-RU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1_P Mori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0924d854e0e5141805f800f73a227d3c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12_F Papetti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92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85840" y="42876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Сопоставительный анализ стихотворений </a:t>
            </a:r>
            <a:endParaRPr b="0" lang="en-US" sz="36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О.Мандельштама «Бессонница.</a:t>
            </a:r>
            <a:endParaRPr b="0" lang="en-US" sz="36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Гомер. Тугие паруса» (1915) </a:t>
            </a:r>
            <a:endParaRPr b="0" lang="en-US" sz="36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и И.Бродского «Итака» (1993) </a:t>
            </a:r>
            <a:endParaRPr b="0" lang="en-US" sz="3600" spc="-1" strike="noStrike">
              <a:solidFill>
                <a:srgbClr val="2d2525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Итака Одиссей 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88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80880" y="68580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142920" y="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154a"/>
                </a:solidFill>
                <a:latin typeface="Monotype Corsiva"/>
              </a:rPr>
              <a:t>«Лирический герой»</a:t>
            </a:r>
            <a:endParaRPr b="0" lang="en-US" sz="3600" spc="-1" strike="noStrike">
              <a:solidFill>
                <a:srgbClr val="2d2525"/>
              </a:solidFill>
              <a:latin typeface="Monotype Corsiva"/>
            </a:endParaRPr>
          </a:p>
        </p:txBody>
      </p:sp>
      <p:pic>
        <p:nvPicPr>
          <p:cNvPr id="102" name="Рисунок 10" descr="возвращение.jpg"/>
          <p:cNvPicPr/>
          <p:nvPr/>
        </p:nvPicPr>
        <p:blipFill>
          <a:blip r:embed="rId1"/>
          <a:stretch/>
        </p:blipFill>
        <p:spPr>
          <a:xfrm>
            <a:off x="920880" y="566640"/>
            <a:ext cx="1828800" cy="2043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1"/>
          <p:cNvSpPr/>
          <p:nvPr/>
        </p:nvSpPr>
        <p:spPr>
          <a:xfrm>
            <a:off x="5000760" y="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154a"/>
                </a:solidFill>
                <a:latin typeface="Monotype Corsiva"/>
              </a:rPr>
              <a:t>«Время»</a:t>
            </a:r>
            <a:endParaRPr b="0" lang="en-US" sz="3600" spc="-1" strike="noStrike">
              <a:solidFill>
                <a:srgbClr val="2d2525"/>
              </a:solidFill>
              <a:latin typeface="Monotype Corsiva"/>
            </a:endParaRPr>
          </a:p>
        </p:txBody>
      </p:sp>
      <p:pic>
        <p:nvPicPr>
          <p:cNvPr id="104" name="Рисунок 12" descr="возвращение одиссея.jpg"/>
          <p:cNvPicPr/>
          <p:nvPr/>
        </p:nvPicPr>
        <p:blipFill>
          <a:blip r:embed="rId2"/>
          <a:stretch/>
        </p:blipFill>
        <p:spPr>
          <a:xfrm>
            <a:off x="5138640" y="566640"/>
            <a:ext cx="1841760" cy="1963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3"/>
          <p:cNvSpPr/>
          <p:nvPr/>
        </p:nvSpPr>
        <p:spPr>
          <a:xfrm>
            <a:off x="214200" y="2714760"/>
            <a:ext cx="3286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285840" y="3214800"/>
            <a:ext cx="42148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4154a"/>
                </a:solidFill>
                <a:latin typeface="Times New Roman"/>
              </a:rPr>
              <a:t>Какие чувства лирического героя Бродского исконно присущи Одиссею, а какие«навязаны» автором?</a:t>
            </a:r>
            <a:endParaRPr b="0" lang="en-US" sz="22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154a"/>
                </a:solidFill>
                <a:latin typeface="Times New Roman"/>
              </a:rPr>
              <a:t>(Какие слова помогают ощутить бесполезность возвращения и смирения с действительностью?)</a:t>
            </a:r>
            <a:endParaRPr b="0" lang="en-US" sz="18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154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4143240" y="3214800"/>
            <a:ext cx="385776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4154a"/>
                </a:solidFill>
                <a:latin typeface="Times New Roman"/>
              </a:rPr>
              <a:t>Бродский говорил, что все его стихи о «Времени, о том, что Время делает с человеком». </a:t>
            </a:r>
            <a:endParaRPr b="0" lang="en-US" sz="22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4154a"/>
                </a:solidFill>
                <a:latin typeface="Times New Roman"/>
              </a:rPr>
              <a:t>Что Время сделало с лирическим героем? </a:t>
            </a:r>
            <a:endParaRPr b="0" lang="en-US" sz="22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154a"/>
                </a:solidFill>
                <a:latin typeface="Times New Roman"/>
              </a:rPr>
              <a:t>(Найдите лексику распада, утраты веры, разрыва связей, одиночества, трагедии.)</a:t>
            </a:r>
            <a:endParaRPr b="0" lang="en-US" sz="18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214200" y="257184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Monotype Corsiva"/>
              </a:rPr>
              <a:t>Какова разница между событиями в гомеровском эпосе и тем, как они воссозданы в стихотворении?</a:t>
            </a:r>
            <a:endParaRPr b="0" lang="en-US" sz="2000" spc="-1" strike="noStrike">
              <a:solidFill>
                <a:srgbClr val="2d2525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1066680" y="304920"/>
            <a:ext cx="807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2525"/>
              </a:solidFill>
              <a:latin typeface="Monotype Corsiva"/>
            </a:endParaRPr>
          </a:p>
        </p:txBody>
      </p:sp>
      <p:pic>
        <p:nvPicPr>
          <p:cNvPr id="110" name="Рисунок 2" descr="бродский 1990-ые годы.jpeg"/>
          <p:cNvPicPr/>
          <p:nvPr/>
        </p:nvPicPr>
        <p:blipFill>
          <a:blip r:embed="rId1"/>
          <a:stretch/>
        </p:blipFill>
        <p:spPr>
          <a:xfrm>
            <a:off x="-6480" y="1133640"/>
            <a:ext cx="3030840" cy="2371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3"/>
          <p:cNvSpPr/>
          <p:nvPr/>
        </p:nvSpPr>
        <p:spPr>
          <a:xfrm>
            <a:off x="0" y="0"/>
            <a:ext cx="792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Ни страны, ни погоста не хочу выбирать</a:t>
            </a:r>
            <a:endParaRPr b="0" lang="en-US" sz="2800" spc="-1" strike="noStrike">
              <a:solidFill>
                <a:srgbClr val="2d2525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На Васильевский остров я приду умирать.</a:t>
            </a:r>
            <a:endParaRPr b="0" lang="en-US" sz="2800" spc="-1" strike="noStrike">
              <a:solidFill>
                <a:srgbClr val="2d2525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И. Бродский</a:t>
            </a:r>
            <a:endParaRPr b="0" lang="en-US" sz="20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928960" y="500040"/>
            <a:ext cx="4857840" cy="85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buClr>
                <a:srgbClr val="194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94df1"/>
                </a:solidFill>
                <a:latin typeface="Times New Roman"/>
              </a:rPr>
              <a:t>«</a:t>
            </a:r>
            <a:r>
              <a:rPr b="1" i="1" lang="ru-RU" sz="2300" spc="-1" strike="noStrike">
                <a:solidFill>
                  <a:srgbClr val="194df1"/>
                </a:solidFill>
                <a:latin typeface="Monotype Corsiva"/>
              </a:rPr>
              <a:t>Я решил не принимать!»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1963 год – принудительное медицинское освидетельствование в психиатрической больнице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 </a:t>
            </a: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1964 год - Советский суд судил Бродского за тунеядство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 </a:t>
            </a: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1964-1965 годы – принудительные работы на севере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1972 год – высылка из России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Родителям отказано 12 раз в просьбе повидать сына за границей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 </a:t>
            </a: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1983, 1984 годы – отказано во въезде даже после смерти матери и отца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194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194df1"/>
                </a:solidFill>
                <a:latin typeface="Monotype Corsiva"/>
              </a:rPr>
              <a:t>1987 год – Нобелевская премия по литературе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1994 год – четвёртый инфаркт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00"/>
                </a:solidFill>
                <a:latin typeface="Monotype Corsiva"/>
              </a:rPr>
              <a:t>1996 год - смерть</a:t>
            </a:r>
            <a:endParaRPr b="0" lang="en-US" sz="23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785880" y="378612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525"/>
                </a:solidFill>
                <a:latin typeface="Times New Roman"/>
              </a:rPr>
              <a:t>И.Бродский </a:t>
            </a:r>
            <a:endParaRPr b="0" lang="en-US" sz="16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525"/>
                </a:solidFill>
                <a:latin typeface="Times New Roman"/>
              </a:rPr>
              <a:t>(1940 – 1996)</a:t>
            </a:r>
            <a:endParaRPr b="0" lang="en-US" sz="1600" spc="-1" strike="noStrike">
              <a:solidFill>
                <a:srgbClr val="2d2525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мандельштам1915 год.jpeg"/>
          <p:cNvPicPr/>
          <p:nvPr/>
        </p:nvPicPr>
        <p:blipFill>
          <a:blip r:embed="rId1"/>
          <a:stretch/>
        </p:blipFill>
        <p:spPr>
          <a:xfrm>
            <a:off x="-6480" y="1133640"/>
            <a:ext cx="2725920" cy="2732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3"/>
          <p:cNvSpPr/>
          <p:nvPr/>
        </p:nvSpPr>
        <p:spPr>
          <a:xfrm>
            <a:off x="0" y="0"/>
            <a:ext cx="7715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Мандельштам единственный, у кого не было   учителей.</a:t>
            </a:r>
            <a:endParaRPr b="0" lang="en-US" sz="2800" spc="-1" strike="noStrike">
              <a:solidFill>
                <a:srgbClr val="2d2525"/>
              </a:solidFill>
              <a:latin typeface="Monotype Corsiv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</a:rPr>
              <a:t>А.А.Ахматова</a:t>
            </a:r>
            <a:endParaRPr b="0" lang="en-US" sz="20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57120" y="392904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d2525"/>
                </a:solidFill>
                <a:latin typeface="Times New Roman"/>
              </a:rPr>
              <a:t>О.Э. Мандельштам (1891-1938)</a:t>
            </a:r>
            <a:endParaRPr b="0" lang="en-US" sz="1600" spc="-1" strike="noStrike">
              <a:solidFill>
                <a:srgbClr val="2d2525"/>
              </a:solidFill>
              <a:latin typeface="Monotype Corsiva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786040" y="1143000"/>
            <a:ext cx="507204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d25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d2525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194df1"/>
                </a:solidFill>
                <a:latin typeface="Monotype Corsiva"/>
              </a:rPr>
              <a:t>1904-1905 годы - русско-японская война 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вошёл в поэзию в 10-ых годах</a:t>
            </a:r>
            <a:r>
              <a:rPr b="1" i="1" lang="en-US" sz="2400" spc="-1" strike="noStrike">
                <a:solidFill>
                  <a:srgbClr val="003300"/>
                </a:solidFill>
                <a:latin typeface="Monotype Corsiva"/>
              </a:rPr>
              <a:t> XX</a:t>
            </a: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 века  уже зрелым, сформировавшимся поэтом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в 20 лет блестяще образован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194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4df1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194df1"/>
                </a:solidFill>
                <a:latin typeface="Monotype Corsiva"/>
              </a:rPr>
              <a:t>1914 год – начало Первой мировой войны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слушал курс лекций в Гейдельбергском университете, в Сорбонне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1934 год – арест и высылка в Воронеж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1938 год – арест и приговор – 5 лет лагерей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безукоризненно владел тремя европейскими языками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Monotype Corsiva"/>
              </a:rPr>
              <a:t>прекрасно знал историю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buClr>
                <a:srgbClr val="194d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94df1"/>
                </a:solidFill>
                <a:latin typeface="Monotype Corsiva"/>
              </a:rPr>
              <a:t>27 декабря 1938 года  - смерть в пересыльном лагере</a:t>
            </a: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14200" y="500040"/>
            <a:ext cx="757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94df1"/>
                </a:solidFill>
                <a:latin typeface="Monotype Corsiva"/>
              </a:rPr>
              <a:t>Моё Время – это…</a:t>
            </a:r>
            <a:endParaRPr b="0" lang="en-US" sz="6600" spc="-1" strike="noStrike">
              <a:solidFill>
                <a:srgbClr val="2d2525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928800" y="0"/>
            <a:ext cx="621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94df1"/>
                </a:solidFill>
                <a:latin typeface="Monotype Corsiva"/>
              </a:rPr>
              <a:t>Синквейн</a:t>
            </a:r>
            <a:endParaRPr b="0" lang="en-US" sz="4800" spc="-1" strike="noStrike">
              <a:solidFill>
                <a:srgbClr val="2d2525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09:40:40Z</dcterms:created>
  <dc:creator>пользователь</dc:creator>
  <dc:description/>
  <dc:language>en-US</dc:language>
  <cp:lastModifiedBy>Админ</cp:lastModifiedBy>
  <dcterms:modified xsi:type="dcterms:W3CDTF">2010-11-15T17:29:21Z</dcterms:modified>
  <cp:revision>118</cp:revision>
  <dc:subject/>
  <dc:title>Символизм, акмеизм</dc:title>
</cp:coreProperties>
</file>